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4E8-C0D0-43C9-B592-8D50035B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1D4-4C9F-4057-8DAE-5F434A3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48C-D465-40A2-B03F-5B5EFE09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E93-1232-408D-AB10-1EE0E467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640-FB85-415A-B1A3-7336B21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F0D-5031-48C9-B84C-1F3C70B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F16-400D-4325-9897-44141419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E33-2130-4211-91F9-DEED210D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AD7-D526-40ED-841D-07FF335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999-5024-49BD-A291-5B188A6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D0F-4D64-4BBE-915A-C0DA088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7D6-CD13-4DB4-BCF1-F9CD029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139-93C3-472D-8831-B19989DA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"/><Relationship Id="rId5" Type="http://schemas.openxmlformats.org/officeDocument/2006/relationships/slide" Target="slide10.xml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"/><Relationship Id="rId9" Type="http://schemas.openxmlformats.org/officeDocument/2006/relationships/slide" Target="slide16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8.xml"/><Relationship Id="rId14" Type="http://schemas.openxmlformats.org/officeDocument/2006/relationships/slide" Target=""/><Relationship Id="rId15" Type="http://schemas.openxmlformats.org/officeDocument/2006/relationships/slide" Target="slide11.xml"/><Relationship Id="rId16" Type="http://schemas.openxmlformats.org/officeDocument/2006/relationships/slide" Target=""/><Relationship Id="rId17" Type="http://schemas.openxmlformats.org/officeDocument/2006/relationships/slide" Target="slide12.xml"/><Relationship Id="rId18" Type="http://schemas.openxmlformats.org/officeDocument/2006/relationships/slide" Target=""/><Relationship Id="rId19" Type="http://schemas.openxmlformats.org/officeDocument/2006/relationships/slide" Target="slide13.xml"/><Relationship Id="rId20" Type="http://schemas.openxmlformats.org/officeDocument/2006/relationships/slide" Target=""/><Relationship Id="rId21" Type="http://schemas.openxmlformats.org/officeDocument/2006/relationships/slide" Target="slide9.xml"/><Relationship Id="rId22" Type="http://schemas.openxmlformats.org/officeDocument/2006/relationships/slide" Target=""/><Relationship Id="rId23" Type="http://schemas.openxmlformats.org/officeDocument/2006/relationships/slide" Target="slide17.xml"/><Relationship Id="rId24" Type="http://schemas.openxmlformats.org/officeDocument/2006/relationships/slide" Target=""/><Relationship Id="rId25" Type="http://schemas.openxmlformats.org/officeDocument/2006/relationships/slide" Target="slide7.xml"/><Relationship Id="rId26" Type="http://schemas.openxmlformats.org/officeDocument/2006/relationships/hyperlink" Target="file:///tmp/home/.config/libreoffice/4/user/gallery/WHOOSH.WAV" TargetMode="Externa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20.xml"/><Relationship Id="rId30" Type="http://schemas.openxmlformats.org/officeDocument/2006/relationships/slide" Target=""/><Relationship Id="rId31" Type="http://schemas.openxmlformats.org/officeDocument/2006/relationships/slide" Target="slide21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ype of bonding that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tween the two strands of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ydrogen bon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enine, guanin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ymine, &amp; cytos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4 nitrogenous bases that make up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ranscribe DNA and car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essage out of the nucle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 rib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nction of m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lypeptide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bond joins amino acids in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cess whereby a D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nd serves as a templat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ormation of mR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cri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ubunit of DNA or RNA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up of a simple sugar,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ate group, and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nucleot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has only 1 str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uracil instead of thymin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is not in the shape of a hel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062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structure of the RNA molecule different from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organelle where prote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ibos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cess whereby riboso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sequence of codons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NA to produce a pro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particular sequ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enetic material of n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living things that pro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lueprints for t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unction of organisms &amp;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d on from generatio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32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dder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76320"/>
            <a:ext cx="19047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er of Bluepr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76320"/>
            <a:ext cx="23619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 of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76320"/>
            <a:ext cx="175284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pour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2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4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6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600" y="12733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3434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nucleic acid polymer 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 bonded nucleotides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 the sugar rib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blocks of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amino ac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rotein that change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e of a chemical re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nz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19920" y="57146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uble hel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hape of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str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of strands makes up the R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olecule consisting of on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polypept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ar-phosphate back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up the sides of the DNA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str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of strands make up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er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ssenger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al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kinds of 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mino group (-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arboxyl group (-COOH)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variable group (-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parts of an amino ac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 </cp:lastModifiedBy>
  <cp:lastPrinted>2001-01-31T16:21:13Z</cp:lastPrinted>
  <dcterms:modified xsi:type="dcterms:W3CDTF">2008-04-08T17:10:17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